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D8B8-E8D5-47CD-94A0-65CF6FF9AF50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5F0-BC52-4E78-901E-CB664B7738EC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7408-6F50-47A8-891F-1065120C0035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2D8-9417-4163-9C59-4D51A243DB0C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5D21-842C-4676-ACB4-AF620F7EBBC8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24B0-D6C1-4C39-8380-BD4737547773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FF3-1252-4FAF-BEEE-AAEDFF4B7E55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D75-D538-4742-B425-14EDB4B1468D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430-3642-4B93-97A3-63171F6027CC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DB24-1D2F-41F8-B9F0-69483DAA3F48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59C8-CFDB-44C3-A7E6-B23DE7AE3EC1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2F1-6A74-48E6-8A84-BDBA1FDEF85A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F25A-C22E-427F-BA10-6DC9EBEA0E4B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520-DCF1-44BA-A619-A16FA490C8AC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4B3-8B6E-492E-B81E-C6CF427A41B6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3522-4A7E-431D-8719-C7ADA9F9CC93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AB0D-2866-4E3E-88C3-66A0FAD46C32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724-45EC-4696-B3B3-A76CA994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DB4-6040-47AF-B006-3381B383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609-C82F-4E5D-9575-65BBEEA7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4BE-5E71-4EB5-B714-BFBD3260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CDB-DA66-4B45-8205-6CA47423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665-B4E6-4BD1-8EF3-00A3326A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E4C-EADF-4E7C-A2C2-597C575F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593-F157-4DB3-94DC-5C8B967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E0C-7C5F-47FA-86DA-0E5BD2D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EFA-8EC8-4539-B3B3-8C2EEBB5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1B3-AFFB-4D9E-8905-0751545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8F9-4BAA-4162-8C53-3791583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14C6-572A-4A2A-B7CA-40E11B0CF664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Orla Walsh\AppData\Local\Microsoft\Windows\Temporary Internet Files\Content.Outlook\58AAV3DZ\section ap 7.jpg"/>
          <p:cNvPicPr/>
          <p:nvPr/>
        </p:nvPicPr>
        <p:blipFill>
          <a:blip r:embed="rId1"/>
          <a:stretch/>
        </p:blipFill>
        <p:spPr>
          <a:xfrm>
            <a:off x="205092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98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da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l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ndu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nder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t 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us Ch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ddhart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ut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ra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ra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udi Ara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-east 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iest foll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an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brew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Apostles and other conve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mily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 and people of Mec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ople who lived beside 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group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ks 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the Sang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red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akh (Tora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ble – 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a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’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pitak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y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Orla Walsh\AppData\Local\Microsoft\Windows\Temporary Internet Files\Content.Outlook\58AAV3DZ\4a.jpg"/>
          <p:cNvPicPr/>
          <p:nvPr/>
        </p:nvPicPr>
        <p:blipFill>
          <a:blip r:embed="rId1"/>
          <a:stretch/>
        </p:blipFill>
        <p:spPr>
          <a:xfrm>
            <a:off x="-541440" y="1484280"/>
            <a:ext cx="10569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IE" sz="4400" spc="-1" strike="noStrike">
                <a:solidFill>
                  <a:srgbClr val="17375e"/>
                </a:solidFill>
                <a:latin typeface="Calibri"/>
              </a:rPr>
              <a:t>What have we learne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Content Placeholder 3"/>
          <p:cNvGrpSpPr/>
          <p:nvPr/>
        </p:nvGrpSpPr>
        <p:grpSpPr>
          <a:xfrm>
            <a:off x="201600" y="1487520"/>
            <a:ext cx="8710560" cy="5168880"/>
            <a:chOff x="201600" y="1487520"/>
            <a:chExt cx="8710560" cy="5168880"/>
          </a:xfrm>
        </p:grpSpPr>
        <p:pic>
          <p:nvPicPr>
            <p:cNvPr id="79" name="Content Placeholder 3" descr=""/>
            <p:cNvPicPr/>
            <p:nvPr/>
          </p:nvPicPr>
          <p:blipFill>
            <a:blip r:embed="rId1"/>
            <a:stretch/>
          </p:blipFill>
          <p:spPr>
            <a:xfrm>
              <a:off x="201600" y="1487520"/>
              <a:ext cx="87105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14200" y="1500120"/>
              <a:ext cx="86868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recognise the importance of respecting our own beliefs and the beliefs and convictions of other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Tolerance is respect, acceptance and appreciation of the rich diversity (differences) in our world. It is a way of thinking and acting that shows respect for those who are different from us.’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understand the implications of sectarianism, in Ireland and elsewhere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Sectarianism is a prejudiced opinion based on religion, which can result in conflict and the exclusion of those of a different faith community. Sectarianism occurs when people reject others because they do not share the same religious beliefs as themselves.’</a:t>
              </a:r>
              <a:r>
                <a:rPr b="0" lang="en-IE" sz="2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2000" spc="-1" strike="noStrike">
                  <a:solidFill>
                    <a:srgbClr val="000000"/>
                  </a:solidFill>
                  <a:latin typeface="Calibri"/>
                </a:rPr>
                <a:t>We looked at: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030a0"/>
                  </a:solidFill>
                  <a:latin typeface="Calibri"/>
                </a:rPr>
                <a:t>	</a:t>
              </a:r>
              <a:r>
                <a:rPr b="0" lang="en-IE" sz="2000" spc="-1" strike="noStrike">
                  <a:solidFill>
                    <a:srgbClr val="7030a0"/>
                  </a:solidFill>
                  <a:latin typeface="Calibri"/>
                </a:rPr>
                <a:t>The story of Gavin Bret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030a0"/>
                  </a:solidFill>
                  <a:latin typeface="Calibri"/>
                </a:rPr>
                <a:t>	</a:t>
              </a:r>
              <a:r>
                <a:rPr b="0" lang="en-IE" sz="2000" spc="-1" strike="noStrike">
                  <a:solidFill>
                    <a:srgbClr val="0070c0"/>
                  </a:solidFill>
                  <a:latin typeface="Calibri"/>
                </a:rPr>
                <a:t>Some of the conflict situations that exist Brett between faith communities around the worl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IE" sz="2400" spc="-1" strike="noStrike">
                <a:solidFill>
                  <a:srgbClr val="4f6228"/>
                </a:solidFill>
                <a:latin typeface="Calibri"/>
              </a:rPr>
              <a:t>We have Explored the Ecumenical Movement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Content Placeholder 2"/>
          <p:cNvGrpSpPr/>
          <p:nvPr/>
        </p:nvGrpSpPr>
        <p:grpSpPr>
          <a:xfrm>
            <a:off x="450720" y="1596960"/>
            <a:ext cx="8242560" cy="4535640"/>
            <a:chOff x="450720" y="1596960"/>
            <a:chExt cx="8242560" cy="4535640"/>
          </a:xfrm>
        </p:grpSpPr>
        <p:pic>
          <p:nvPicPr>
            <p:cNvPr id="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At local level: Church Unity Week in our school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At national level: The Currach Community and the Glencree Community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At international level: The World Council of Churches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understand the meaning of inter-faith dialogue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Inter-faith dialogue is the term we use to describe different religions talking to one another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Inter-faith (or inter-religious) dialogue is different from ecumenism because it refers 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dialogue between all of the world religions, not just the Christian churches.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ur examp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Content Placeholder 2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87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At local level: Inter-faith prayer services in our school or communit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At national level: Inter-faith Prayer Service for World Peace, Dublin, October 20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At international level: Pope John Paul II’s World Day of Prayer for Peace, Assisi, 20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Orla Walsh\AppData\Local\Microsoft\Windows\Temporary Internet Files\Content.Outlook\58AAV3DZ\5a (2).jpg"/>
          <p:cNvPicPr/>
          <p:nvPr/>
        </p:nvPicPr>
        <p:blipFill>
          <a:blip r:embed="rId1"/>
          <a:stretch/>
        </p:blipFill>
        <p:spPr>
          <a:xfrm>
            <a:off x="-324000" y="1844640"/>
            <a:ext cx="9625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7375e"/>
                </a:solidFill>
                <a:latin typeface="Calibri"/>
              </a:rPr>
              <a:t>What have we learne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Content Placeholder 2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9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have identified and explored different styles of leadership in human communities and in religious/church communitie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200" spc="-1" strike="noStrike">
                  <a:solidFill>
                    <a:srgbClr val="000000"/>
                  </a:solidFill>
                  <a:latin typeface="Calibri"/>
                </a:rPr>
                <a:t>Authoritarian leadership </a:t>
              </a:r>
              <a:r>
                <a:rPr b="0" lang="en-IE" sz="2200" spc="-1" strike="noStrike">
                  <a:solidFill>
                    <a:srgbClr val="000000"/>
                  </a:solidFill>
                  <a:latin typeface="Calibri"/>
                </a:rPr>
                <a:t>is often referred to as traditional leadership. An authoritarian leader does not allow anyone else to become involved in the decision-making process. An authoritarian leader always ‘leads’ and expects others to follow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200" spc="-1" strike="noStrike">
                  <a:solidFill>
                    <a:srgbClr val="000000"/>
                  </a:solidFill>
                  <a:latin typeface="Calibri"/>
                </a:rPr>
                <a:t>Enabling leadership </a:t>
              </a:r>
              <a:r>
                <a:rPr b="0" lang="en-IE" sz="2200" spc="-1" strike="noStrike">
                  <a:solidFill>
                    <a:srgbClr val="000000"/>
                  </a:solidFill>
                  <a:latin typeface="Calibri"/>
                </a:rPr>
                <a:t>is about motivating and helping the group to make their own decisions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200" spc="-1" strike="noStrike">
                  <a:solidFill>
                    <a:srgbClr val="000000"/>
                  </a:solidFill>
                  <a:latin typeface="Calibri"/>
                </a:rPr>
                <a:t>Consultative leadership </a:t>
              </a:r>
              <a:r>
                <a:rPr b="0" lang="en-IE" sz="2200" spc="-1" strike="noStrike">
                  <a:solidFill>
                    <a:srgbClr val="000000"/>
                  </a:solidFill>
                  <a:latin typeface="Calibri"/>
                </a:rPr>
                <a:t>is where the leader listens to everyone in the group and allows their suggestions to influence his/her final decision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4" descr=""/>
          <p:cNvPicPr/>
          <p:nvPr/>
        </p:nvPicPr>
        <p:blipFill>
          <a:blip r:embed="rId1"/>
          <a:stretch/>
        </p:blipFill>
        <p:spPr>
          <a:xfrm>
            <a:off x="-42840" y="-6480"/>
            <a:ext cx="93520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17375e"/>
                </a:solidFill>
                <a:latin typeface="Calibri"/>
              </a:rPr>
              <a:t>What have we learne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360"/>
            <a:ext cx="8400960" cy="5375520"/>
          </a:xfrm>
          <a:prstGeom prst="rect">
            <a:avLst/>
          </a:prstGeom>
          <a:solidFill>
            <a:srgbClr val="ffcc99"/>
          </a:solidFill>
          <a:ln w="936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We have explored different types of commun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Family – School – Local – Faith – Medical – Spo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We have identified common and particu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characteristics of these communit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We have explored the tension that can exist between the needs of the individual and the needs of the commun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The word </a:t>
            </a:r>
            <a:r>
              <a:rPr b="1" i="1" lang="en-IE" sz="21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means a feature 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quality that mak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somebody or someth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recognisab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Orla Walsh\AppData\Local\Microsoft\Windows\Temporary Internet Files\Content.Outlook\58AAV3DZ\characteristics of a#C38561 (3).jpg"/>
          <p:cNvPicPr/>
          <p:nvPr/>
        </p:nvPicPr>
        <p:blipFill>
          <a:blip r:embed="rId1"/>
          <a:stretch/>
        </p:blipFill>
        <p:spPr>
          <a:xfrm>
            <a:off x="5052960" y="3925800"/>
            <a:ext cx="27558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IE" sz="2400" spc="-1" strike="noStrike">
                <a:solidFill>
                  <a:srgbClr val="4f6228"/>
                </a:solidFill>
                <a:latin typeface="Calibri"/>
              </a:rPr>
              <a:t>We have explored the tension that can exist between the needs of the individual and the needs of the community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Content Placeholder 2"/>
          <p:cNvGrpSpPr/>
          <p:nvPr/>
        </p:nvGrpSpPr>
        <p:grpSpPr>
          <a:xfrm>
            <a:off x="444600" y="2766960"/>
            <a:ext cx="4066920" cy="3371760"/>
            <a:chOff x="444600" y="2766960"/>
            <a:chExt cx="4066920" cy="3371760"/>
          </a:xfrm>
        </p:grpSpPr>
        <p:pic>
          <p:nvPicPr>
            <p:cNvPr id="5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766960"/>
              <a:ext cx="406692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81360"/>
              <a:ext cx="403848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Co-oper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Sharing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Good communic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Fulfilling role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Help and support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Content Placeholder 8"/>
          <p:cNvGrpSpPr/>
          <p:nvPr/>
        </p:nvGrpSpPr>
        <p:grpSpPr>
          <a:xfrm>
            <a:off x="4638600" y="2766960"/>
            <a:ext cx="4060800" cy="3371760"/>
            <a:chOff x="4638600" y="2766960"/>
            <a:chExt cx="4060800" cy="3371760"/>
          </a:xfrm>
        </p:grpSpPr>
        <p:pic>
          <p:nvPicPr>
            <p:cNvPr id="57" name="Content Placeholder 8" descr=""/>
            <p:cNvPicPr/>
            <p:nvPr/>
          </p:nvPicPr>
          <p:blipFill>
            <a:blip r:embed="rId2"/>
            <a:stretch/>
          </p:blipFill>
          <p:spPr>
            <a:xfrm>
              <a:off x="4638600" y="2766960"/>
              <a:ext cx="40608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48320" y="2781360"/>
              <a:ext cx="403848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Lack of co-oper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Not sharing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Poor communic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Failure to carry out role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Failure to deal with tens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between the member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6752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Strengths of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141264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2600" spc="-1" strike="noStrike">
                <a:solidFill>
                  <a:srgbClr val="000000"/>
                </a:solidFill>
                <a:latin typeface="Calibri"/>
              </a:rPr>
              <a:t>Weaknesses that lead to community breakd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Orla Walsh\AppData\Local\Microsoft\Windows\Temporary Internet Files\Content.Outlook\58AAV3DZ\2a.jpg"/>
          <p:cNvPicPr/>
          <p:nvPr/>
        </p:nvPicPr>
        <p:blipFill>
          <a:blip r:embed="rId1"/>
          <a:stretch/>
        </p:blipFill>
        <p:spPr>
          <a:xfrm>
            <a:off x="-684360" y="1557360"/>
            <a:ext cx="103935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17375e"/>
                </a:solidFill>
                <a:latin typeface="Calibri"/>
              </a:rPr>
              <a:t>What have we learned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Content Placeholder 7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64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49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600" spc="-1" strike="noStrike">
                  <a:solidFill>
                    <a:srgbClr val="4f6228"/>
                  </a:solidFill>
                  <a:latin typeface="Calibri"/>
                </a:rPr>
                <a:t>We can describe the role of communities in society.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The communities to which we belong provide us with a </a:t>
              </a: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service, i.e. they fulfil some of our need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Communities enable us to grow and change and they work with us to help us achieve our goals in life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recognise the variety of roles within communities, including leadership role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iagram 4" descr=""/>
          <p:cNvPicPr/>
          <p:nvPr/>
        </p:nvPicPr>
        <p:blipFill>
          <a:blip r:embed="rId1"/>
          <a:stretch/>
        </p:blipFill>
        <p:spPr>
          <a:xfrm>
            <a:off x="-103320" y="706320"/>
            <a:ext cx="9266400" cy="617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000240" y="142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róc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iagram 1" descr=""/>
          <p:cNvPicPr/>
          <p:nvPr/>
        </p:nvPicPr>
        <p:blipFill>
          <a:blip r:embed="rId1"/>
          <a:stretch/>
        </p:blipFill>
        <p:spPr>
          <a:xfrm>
            <a:off x="-109440" y="755640"/>
            <a:ext cx="9253440" cy="6121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071720" y="142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he Carmelite Order of Sis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iagram 1" descr=""/>
          <p:cNvPicPr/>
          <p:nvPr/>
        </p:nvPicPr>
        <p:blipFill>
          <a:blip r:embed="rId1"/>
          <a:stretch/>
        </p:blipFill>
        <p:spPr>
          <a:xfrm>
            <a:off x="-109440" y="755640"/>
            <a:ext cx="9131040" cy="612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071720" y="142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Name of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Content Placeholder 2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7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We can retell stories about the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	</a:t>
              </a: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founders/earliest followers of Christianity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	</a:t>
              </a: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Judaism, Islam, Hinduism and Buddhism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9:01:17Z</dcterms:created>
  <dc:creator>Orla Walsh</dc:creator>
  <dc:description/>
  <dc:language>en-US</dc:language>
  <cp:lastModifiedBy>Tom Guinan</cp:lastModifiedBy>
  <dcterms:modified xsi:type="dcterms:W3CDTF">2010-08-04T09:18:38Z</dcterms:modified>
  <cp:revision>29</cp:revision>
  <dc:subject/>
  <dc:title>Part 1 - Community Lessons 1 - 3</dc:title>
</cp:coreProperties>
</file>