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CF4-4001-432C-9BB4-27910EE4CF4B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3DB-0B6E-494F-9A92-9581F8E151C7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8E4-B3C2-4CA2-83C3-47A05B5AB89C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8268-6D26-46F9-AF36-58BC78F6B5D8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81C-FF0E-4156-8837-8DFECD4FE677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98B-E181-4A58-B93D-D85DD20AA6AE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50D-E796-4AF3-8921-1FA347397547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1E4-1395-4F9D-9313-25091F7AEE50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BE4-21E5-4C68-9C7F-F94F8BBEA36D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F1C-96EE-4874-BB7D-43B6FEAB0B7A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B39D-9CE7-4683-ABBB-D23C932F4C83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EA5-1F5A-4B2C-9A86-27C46E7BB426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D4D-DEE1-47EE-9827-497558842950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DAE-F2FD-4FDA-B7C3-EB78897FE231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6CB-BF3F-47BC-A76E-708627A3A6B1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372-2E36-4567-95B3-E3DCC5C98D65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BA2-EFA4-4287-93B7-4973FF3150C4}" type="slidenum">
              <a:rPr b="0" lang="ga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587-0133-44F9-B72D-5016DA63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713-F07F-4C2D-AB96-359AA10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9A8-AC3C-4B27-B21B-C40479AC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0A1-82E2-4957-9022-FED5B380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2D4-8F04-4B1B-BBD7-F4ABA3F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7D7-BFF1-4749-BF0F-61E049F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613-9EBC-4464-A453-EDDF565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7CF-2E91-405B-B282-ED94011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3A8-079E-4AF6-ABCB-BD9EA4E4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AE7-FAD4-4371-A872-AAD1962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BDC-4C91-481C-8C1E-A86E354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E5A-223B-4D54-8489-78CC3D5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566D-4117-4E57-A0A6-204A91EB6C45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Orla Walsh\AppData\Local\Microsoft\Windows\Temporary Internet Files\Content.Outlook\58AAV3DZ\section ap 7.jpg"/>
          <p:cNvPicPr/>
          <p:nvPr/>
        </p:nvPicPr>
        <p:blipFill>
          <a:blip r:embed="rId1"/>
          <a:stretch/>
        </p:blipFill>
        <p:spPr>
          <a:xfrm>
            <a:off x="205092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98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da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l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ndu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nder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nificant 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aham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us Ch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ddhart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ut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udi Ara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-east 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iest fol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n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brew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postles and other conve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mily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hammad and people of Mec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ople who lived beside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group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ks 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the Sang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red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akh (Tora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ble – 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a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’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pitak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y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Orla Walsh\AppData\Local\Microsoft\Windows\Temporary Internet Files\Content.Outlook\58AAV3DZ\4a.jpg"/>
          <p:cNvPicPr/>
          <p:nvPr/>
        </p:nvPicPr>
        <p:blipFill>
          <a:blip r:embed="rId1"/>
          <a:stretch/>
        </p:blipFill>
        <p:spPr>
          <a:xfrm>
            <a:off x="-541440" y="1484280"/>
            <a:ext cx="1056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Content Placeholder 3"/>
          <p:cNvGrpSpPr/>
          <p:nvPr/>
        </p:nvGrpSpPr>
        <p:grpSpPr>
          <a:xfrm>
            <a:off x="201600" y="1487520"/>
            <a:ext cx="8710560" cy="5168880"/>
            <a:chOff x="201600" y="1487520"/>
            <a:chExt cx="8710560" cy="5168880"/>
          </a:xfrm>
        </p:grpSpPr>
        <p:pic>
          <p:nvPicPr>
            <p:cNvPr id="79" name="Content Placeholder 3" descr=""/>
            <p:cNvPicPr/>
            <p:nvPr/>
          </p:nvPicPr>
          <p:blipFill>
            <a:blip r:embed="rId1"/>
            <a:stretch/>
          </p:blipFill>
          <p:spPr>
            <a:xfrm>
              <a:off x="201600" y="1487520"/>
              <a:ext cx="871056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14200" y="1500120"/>
              <a:ext cx="868680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recognise the importance of respecting our own beliefs and the beliefs and convictions of other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Tolerance is respect, acceptance and appreciation of the rich diversity (differences) in our world. It is a way of thinking and acting that shows respect for those who are different from us.’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understand the implications of sectarianism, in Ireland and elsewhere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1" lang="en-IE" sz="2100" spc="-1" strike="noStrike">
                  <a:solidFill>
                    <a:srgbClr val="000000"/>
                  </a:solidFill>
                  <a:latin typeface="Calibri"/>
                </a:rPr>
                <a:t>Sectarianism is a prejudiced opinion based on religion, which can result in conflict and the exclusion of those of a different faith community. Sectarianism occurs when people reject others because they do not share the same religious beliefs as themselves.’</a:t>
              </a: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000000"/>
                  </a:solidFill>
                  <a:latin typeface="Calibri"/>
                </a:rPr>
                <a:t>We looked at: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The story of Gavin Bret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030a0"/>
                  </a:solidFill>
                  <a:latin typeface="Calibri"/>
                </a:rPr>
                <a:t>	</a:t>
              </a:r>
              <a:r>
                <a:rPr b="0" lang="en-IE" sz="2000" spc="-1" strike="noStrike">
                  <a:solidFill>
                    <a:srgbClr val="0070c0"/>
                  </a:solidFill>
                  <a:latin typeface="Calibri"/>
                </a:rPr>
                <a:t>Some of the conflict situations that exist Brett between faith communities around the worl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IE" sz="2400" spc="-1" strike="noStrike">
                <a:solidFill>
                  <a:srgbClr val="4f6228"/>
                </a:solidFill>
                <a:latin typeface="Calibri"/>
              </a:rPr>
              <a:t>We have Explored the Ecumenical Movement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Content Placeholder 2"/>
          <p:cNvGrpSpPr/>
          <p:nvPr/>
        </p:nvGrpSpPr>
        <p:grpSpPr>
          <a:xfrm>
            <a:off x="450720" y="1596960"/>
            <a:ext cx="8242560" cy="4535640"/>
            <a:chOff x="450720" y="1596960"/>
            <a:chExt cx="8242560" cy="4535640"/>
          </a:xfrm>
        </p:grpSpPr>
        <p:pic>
          <p:nvPicPr>
            <p:cNvPr id="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1596960"/>
              <a:ext cx="824256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local level: Church Unity Week in our school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national level: The Currach Community and the Glencree Community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At international level: The World Council of Churches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understand the meaning of inter-faith dialogue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‘</a:t>
              </a: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Inter-faith dialogue is the term we use to describe different religions talking to one another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Inter-faith (or inter-religious) dialogue is different from ecumenism because it refers 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Calibri"/>
                </a:rPr>
                <a:t>dialogue between all of the world religions, not just the Christian churches.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ur examp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87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local level: Inter-faith prayer services in our school or communit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national level: Inter-faith Prayer Service for World Peace, Dublin, October 20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At international level: Pope John Paul II’s World Day of Prayer for Peace, Assisi, 20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Orla Walsh\AppData\Local\Microsoft\Windows\Temporary Internet Files\Content.Outlook\58AAV3DZ\5a (2).jpg"/>
          <p:cNvPicPr/>
          <p:nvPr/>
        </p:nvPicPr>
        <p:blipFill>
          <a:blip r:embed="rId1"/>
          <a:stretch/>
        </p:blipFill>
        <p:spPr>
          <a:xfrm>
            <a:off x="-324000" y="1844640"/>
            <a:ext cx="9625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have identified and explored different styles of leadership in human communities and in religious/church communitie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Authoritarian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often referred to as traditional leadership. An authoritarian leader does not allow anyone else to become involved in the decision-making process. An authoritarian leader always ‘leads’ and expects others to follow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Enabling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about motivating and helping the group to make their own decisions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200" spc="-1" strike="noStrike">
                  <a:solidFill>
                    <a:srgbClr val="000000"/>
                  </a:solidFill>
                  <a:latin typeface="Calibri"/>
                </a:rPr>
                <a:t>Consultative leadership </a:t>
              </a:r>
              <a:r>
                <a:rPr b="0" lang="en-IE" sz="2200" spc="-1" strike="noStrike">
                  <a:solidFill>
                    <a:srgbClr val="000000"/>
                  </a:solidFill>
                  <a:latin typeface="Calibri"/>
                </a:rPr>
                <a:t>is where the leader listens to everyone in the group and allows their suggestions to influence his/her final decision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4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93520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17375e"/>
                </a:solidFill>
                <a:latin typeface="Calibri"/>
              </a:rPr>
              <a:t>What have we learn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360"/>
            <a:ext cx="8400960" cy="5375520"/>
          </a:xfrm>
          <a:prstGeom prst="rect">
            <a:avLst/>
          </a:prstGeom>
          <a:solidFill>
            <a:srgbClr val="ffcc99"/>
          </a:solidFill>
          <a:ln w="9360">
            <a:solidFill>
              <a:srgbClr val="98480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explored different types of commun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Family – School – Local – Faith – Medical – Spo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identified common and particu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characteristics of these communit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4f6228"/>
                </a:solidFill>
                <a:latin typeface="Calibri"/>
              </a:rPr>
              <a:t>We have explored the tension that can exist between the needs of the individual and the needs of the commun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The word </a:t>
            </a:r>
            <a:r>
              <a:rPr b="1" i="1" lang="en-IE" sz="2100" spc="-1" strike="noStrike">
                <a:solidFill>
                  <a:srgbClr val="000000"/>
                </a:solidFill>
                <a:latin typeface="Calibri"/>
              </a:rPr>
              <a:t>characteristic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means a feature 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quality that mak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somebody or someth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IE" sz="2100" spc="-1" strike="noStrike">
                <a:solidFill>
                  <a:srgbClr val="000000"/>
                </a:solidFill>
                <a:latin typeface="Calibri"/>
              </a:rPr>
              <a:t>recognis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Orla Walsh\AppData\Local\Microsoft\Windows\Temporary Internet Files\Content.Outlook\58AAV3DZ\characteristics of a#C38561 (3).jpg"/>
          <p:cNvPicPr/>
          <p:nvPr/>
        </p:nvPicPr>
        <p:blipFill>
          <a:blip r:embed="rId1"/>
          <a:stretch/>
        </p:blipFill>
        <p:spPr>
          <a:xfrm>
            <a:off x="5052960" y="3925800"/>
            <a:ext cx="27558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IE" sz="2400" spc="-1" strike="noStrike">
                <a:solidFill>
                  <a:srgbClr val="4f6228"/>
                </a:solidFill>
                <a:latin typeface="Calibri"/>
              </a:rPr>
              <a:t>We have explored the tension that can exist between the needs of the individual and the needs of the community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Content Placeholder 2"/>
          <p:cNvGrpSpPr/>
          <p:nvPr/>
        </p:nvGrpSpPr>
        <p:grpSpPr>
          <a:xfrm>
            <a:off x="444600" y="2766960"/>
            <a:ext cx="4066920" cy="3371760"/>
            <a:chOff x="444600" y="2766960"/>
            <a:chExt cx="4066920" cy="3371760"/>
          </a:xfrm>
        </p:grpSpPr>
        <p:pic>
          <p:nvPicPr>
            <p:cNvPr id="5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766960"/>
              <a:ext cx="40669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81360"/>
              <a:ext cx="403848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Co-oper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Sharing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Good communic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ulfilling role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Help and support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Content Placeholder 8"/>
          <p:cNvGrpSpPr/>
          <p:nvPr/>
        </p:nvGrpSpPr>
        <p:grpSpPr>
          <a:xfrm>
            <a:off x="4638600" y="2766960"/>
            <a:ext cx="4060800" cy="3371760"/>
            <a:chOff x="4638600" y="2766960"/>
            <a:chExt cx="4060800" cy="3371760"/>
          </a:xfrm>
        </p:grpSpPr>
        <p:pic>
          <p:nvPicPr>
            <p:cNvPr id="57" name="Content Placeholder 8" descr=""/>
            <p:cNvPicPr/>
            <p:nvPr/>
          </p:nvPicPr>
          <p:blipFill>
            <a:blip r:embed="rId2"/>
            <a:stretch/>
          </p:blipFill>
          <p:spPr>
            <a:xfrm>
              <a:off x="4638600" y="2766960"/>
              <a:ext cx="406080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48320" y="2781360"/>
              <a:ext cx="403848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Lack of co-oper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Not sharing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Poor communicat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ailure to carry out role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Failure to deal with tension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2600" spc="-1" strike="noStrike">
                  <a:solidFill>
                    <a:srgbClr val="000000"/>
                  </a:solidFill>
                  <a:latin typeface="Calibri"/>
                </a:rPr>
                <a:t>between the member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6752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Strengths of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2600" spc="-1" strike="noStrike">
                <a:solidFill>
                  <a:srgbClr val="000000"/>
                </a:solidFill>
                <a:latin typeface="Calibri"/>
              </a:rPr>
              <a:t>Weaknesses that lead to community breakd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Orla Walsh\AppData\Local\Microsoft\Windows\Temporary Internet Files\Content.Outlook\58AAV3DZ\2a.jpg"/>
          <p:cNvPicPr/>
          <p:nvPr/>
        </p:nvPicPr>
        <p:blipFill>
          <a:blip r:embed="rId1"/>
          <a:stretch/>
        </p:blipFill>
        <p:spPr>
          <a:xfrm>
            <a:off x="-684360" y="1557360"/>
            <a:ext cx="103935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17375e"/>
                </a:solidFill>
                <a:latin typeface="Calibri"/>
              </a:rPr>
              <a:t>What have we learned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Content Placeholder 7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64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49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600" spc="-1" strike="noStrike">
                  <a:solidFill>
                    <a:srgbClr val="4f6228"/>
                  </a:solidFill>
                  <a:latin typeface="Calibri"/>
                </a:rPr>
                <a:t>We can describe the role of communities in society.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The communities to which we belong provide us with a </a:t>
              </a:r>
              <a:r>
                <a:rPr b="1" lang="en-IE" sz="3200" spc="-1" strike="noStrike">
                  <a:solidFill>
                    <a:srgbClr val="000000"/>
                  </a:solidFill>
                  <a:latin typeface="Calibri"/>
                </a:rPr>
                <a:t>service, i.e. they fulfil some of our need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Communities enable us to grow and change and they work with us to help us achieve our goals in life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4f622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400" spc="-1" strike="noStrike">
                  <a:solidFill>
                    <a:srgbClr val="4f6228"/>
                  </a:solidFill>
                  <a:latin typeface="Calibri"/>
                </a:rPr>
                <a:t>We recognise the variety of roles within communities, including leadership role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iagram 4" descr=""/>
          <p:cNvPicPr/>
          <p:nvPr/>
        </p:nvPicPr>
        <p:blipFill>
          <a:blip r:embed="rId1"/>
          <a:stretch/>
        </p:blipFill>
        <p:spPr>
          <a:xfrm>
            <a:off x="-103320" y="706320"/>
            <a:ext cx="9266400" cy="617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000240" y="142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róc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iagram 1" descr=""/>
          <p:cNvPicPr/>
          <p:nvPr/>
        </p:nvPicPr>
        <p:blipFill>
          <a:blip r:embed="rId1"/>
          <a:stretch/>
        </p:blipFill>
        <p:spPr>
          <a:xfrm>
            <a:off x="-109440" y="755640"/>
            <a:ext cx="9253440" cy="6121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071720" y="142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he Carmelite Order of Sis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iagram 1" descr=""/>
          <p:cNvPicPr/>
          <p:nvPr/>
        </p:nvPicPr>
        <p:blipFill>
          <a:blip r:embed="rId1"/>
          <a:stretch/>
        </p:blipFill>
        <p:spPr>
          <a:xfrm>
            <a:off x="-109440" y="755640"/>
            <a:ext cx="9131040" cy="612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071720" y="142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Name of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Content Placeholder 2"/>
          <p:cNvGrpSpPr/>
          <p:nvPr/>
        </p:nvGrpSpPr>
        <p:grpSpPr>
          <a:xfrm>
            <a:off x="444600" y="1590840"/>
            <a:ext cx="8254800" cy="4547880"/>
            <a:chOff x="444600" y="1590840"/>
            <a:chExt cx="8254800" cy="4547880"/>
          </a:xfrm>
        </p:grpSpPr>
        <p:pic>
          <p:nvPicPr>
            <p:cNvPr id="7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45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We can retell stories about th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founders/earliest followers of Christianity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	</a:t>
              </a:r>
              <a:r>
                <a:rPr b="1" lang="en-IE" sz="3200" spc="-1" strike="noStrike">
                  <a:solidFill>
                    <a:srgbClr val="4f6228"/>
                  </a:solidFill>
                  <a:latin typeface="Calibri"/>
                </a:rPr>
                <a:t>Judaism, Islam, Hinduism and Buddhism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9:01:17Z</dcterms:created>
  <dc:creator>Orla Walsh</dc:creator>
  <dc:description/>
  <dc:language>en-US</dc:language>
  <cp:lastModifiedBy>Tom Guinan</cp:lastModifiedBy>
  <dcterms:modified xsi:type="dcterms:W3CDTF">2010-08-04T09:18:38Z</dcterms:modified>
  <cp:revision>29</cp:revision>
  <dc:subject/>
  <dc:title>Part 1 - Community Lessons 1 - 3</dc:title>
</cp:coreProperties>
</file>